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026-0C5F-40C9-85CF-4F6A610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8B6-1CF6-4111-B937-66DB1540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85-5286-419A-A5FA-9C774AB7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A2B-E93C-4536-A227-454FAFE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541-D23C-4B26-BF5A-32A0CD1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F8D2-8E2C-43B8-B0EF-98FD07B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A6F7-F025-4C38-87F4-CFF1A90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0AE6-5584-476C-A675-E9C2C2D8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0474-578B-48EF-A7E4-756DE96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D2C-7C9C-4EEF-A386-C27BDF5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176D-ADC9-4B3B-9342-635397DE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742-50DC-4FD7-8636-E24F5FA4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C584-3178-400C-825D-F07DCAF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6A0F-B20F-438D-9A19-E7FD73AB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763E-96BF-4859-A3BE-83559E96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4076-9359-4F51-8386-14C3F933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1344-5670-40EF-AFD3-C6E1EB23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2C4-AED6-4BF4-87CF-512F2E6E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543-7F74-4FDE-8E57-AE60F9F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92E-2E60-4478-9201-D28498A0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47F-DBB6-4156-B31A-AA85585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03B-4DDD-4BD7-B6EF-2FC8302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539-E81E-4654-B7C6-95BAD1A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58D-4146-46D3-88A5-7E7AB41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82CB-D487-4FE8-9AB2-2B0A91F231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C961-59F8-467E-AD1C-550CB81074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14: Forging the National Economy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90-18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Industrial Revolution Beg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Revolution,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slow to embrace Industrial Re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il was cheap (easier to grow crop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was scarce (until immigrants, 1840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umers were sca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monopoly on texti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24480" y="4724280"/>
            <a:ext cx="25527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ward Move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of Andrew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a pioneer was g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gged Individualism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57200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haping Western Landsca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r-trapp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 for manufactured goods from the e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orge Catlin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inter &amp; student of Native American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ed creation of national p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llowstone, 18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048440" y="4219560"/>
            <a:ext cx="2095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ch of the Mill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 doubling every 25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860, 33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st populous country in western worl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5000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ch of the Millio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sirable by-produc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elly slu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dequate polic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re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l sew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mmigrants came to America (GERMAN, IRISH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 over-crowd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freedom &amp; opportunity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reland Moves Wes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ato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ton, New Y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 Catholic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skill occupations, horrible living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ed by native workers of facto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&amp; fought w/ African Amer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526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rman Forty-Eigh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0-1860 (1848: fail of democratic revolutions in German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rooted farmers (Crop failure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important politically; scat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ted art, music &amp; cul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educated than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ed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48480" y="4800600"/>
            <a:ext cx="2495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ti-Foreig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ared immigrants would outbreed, outvote &amp; overwhelm the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rictions on immigration &amp; natural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holics vs. Protesta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violence- Irish Cat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, 18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was becoming more ethnically &amp; racially varied/di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now-Nothing Part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der of the Star Spangled Ba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 derived from its secretiven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- immig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- Roman Cathol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4610160"/>
            <a:ext cx="3000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4:00:05Z</dcterms:created>
  <dc:creator>emily.johnson</dc:creator>
  <dc:description/>
  <dc:language>en-US</dc:language>
  <cp:lastModifiedBy>emily.johnson</cp:lastModifiedBy>
  <dcterms:modified xsi:type="dcterms:W3CDTF">2012-11-08T21:16:07Z</dcterms:modified>
  <cp:revision>4</cp:revision>
  <dc:subject/>
  <dc:title>Chapter 14: Forging the National Economy </dc:title>
</cp:coreProperties>
</file>